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158413" cy="107457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8AE83-F1D9-437D-8303-96D4ACFAB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430200"/>
            <a:ext cx="9144000" cy="17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7960" y="2506680"/>
            <a:ext cx="91440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7960" y="6210720"/>
            <a:ext cx="91440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ED198-A90A-4337-B023-3EA34FF51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430200"/>
            <a:ext cx="9144000" cy="17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07960" y="2506680"/>
            <a:ext cx="44622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93720" y="2506680"/>
            <a:ext cx="44622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7960" y="6210720"/>
            <a:ext cx="44622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93720" y="6210720"/>
            <a:ext cx="44622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8DAFA-2754-4089-AC68-6DF6E6311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430200"/>
            <a:ext cx="9144000" cy="17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07960" y="2506680"/>
            <a:ext cx="294408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99640" y="2506680"/>
            <a:ext cx="294408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91320" y="2506680"/>
            <a:ext cx="294408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7960" y="6210720"/>
            <a:ext cx="294408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99640" y="6210720"/>
            <a:ext cx="294408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91320" y="6210720"/>
            <a:ext cx="294408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AB761-70AF-4AD1-9C39-2A8E87FA0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430200"/>
            <a:ext cx="9144000" cy="17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7960" y="2506680"/>
            <a:ext cx="9144000" cy="709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80523-D406-4225-893A-969AAFE9E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430200"/>
            <a:ext cx="9144000" cy="17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07960" y="2506680"/>
            <a:ext cx="9144000" cy="709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F068F-EF97-4514-BCDE-25686A10D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430200"/>
            <a:ext cx="9144000" cy="17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07960" y="2506680"/>
            <a:ext cx="4462200" cy="709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93720" y="2506680"/>
            <a:ext cx="4462200" cy="709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519C0-AB6B-4BC6-B399-80524A9E4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430200"/>
            <a:ext cx="9144000" cy="17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AACA1-E38D-4648-A241-78C761B08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430200"/>
            <a:ext cx="9144000" cy="8301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3CD5B-12D0-4085-8C94-0560294DE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430200"/>
            <a:ext cx="9144000" cy="17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07960" y="2506680"/>
            <a:ext cx="44622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93720" y="2506680"/>
            <a:ext cx="4462200" cy="709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7960" y="6210720"/>
            <a:ext cx="44622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154B4-17A0-4C6A-A404-6D9151C92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430200"/>
            <a:ext cx="9144000" cy="17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07960" y="2506680"/>
            <a:ext cx="4462200" cy="709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93720" y="2506680"/>
            <a:ext cx="44622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93720" y="6210720"/>
            <a:ext cx="44622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06713-3AA4-4942-944A-F044E197D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430200"/>
            <a:ext cx="9144000" cy="17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07960" y="2506680"/>
            <a:ext cx="44622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93720" y="2506680"/>
            <a:ext cx="44622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7960" y="6210720"/>
            <a:ext cx="91440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7E915-4A1E-4A06-99D7-3839FFB71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430200"/>
            <a:ext cx="9144000" cy="17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7960" y="2506680"/>
            <a:ext cx="9144000" cy="7091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7960" y="9783360"/>
            <a:ext cx="2370240" cy="74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71840" y="9783360"/>
            <a:ext cx="3216240" cy="74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81720" y="9783360"/>
            <a:ext cx="2370240" cy="74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3DB74-C930-4606-B861-14F78AA7A1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990720" y="152280"/>
            <a:ext cx="538452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arlow Solid Italic - 72"/>
              </a:rPr>
              <a:t>The Black Death</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arlow Solid Italic - 72"/>
              </a:rPr>
              <a:t>B</a:t>
            </a:r>
            <a:r>
              <a:rPr b="0" lang="en-US" sz="3600" spc="-1" strike="noStrike">
                <a:solidFill>
                  <a:srgbClr val="ffffff"/>
                </a:solidFill>
                <a:latin typeface="Harlow Solid Italic - 36"/>
              </a:rPr>
              <a:t>y: Meron Siira and Carolin Sous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arlow Solid Italic - 36"/>
              </a:rPr>
              <a:t>P</a:t>
            </a:r>
            <a:r>
              <a:rPr b="0" lang="en-US" sz="2400" spc="-1" strike="noStrike">
                <a:solidFill>
                  <a:srgbClr val="ffffff"/>
                </a:solidFill>
                <a:latin typeface="Harlow Solid Italic - 24"/>
              </a:rPr>
              <a:t>d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low Solid Italic - 24"/>
              </a:rPr>
              <a:t>11/17/09</a:t>
            </a:r>
            <a:endParaRPr b="0" lang="en-US" sz="2400" spc="-1" strike="noStrike">
              <a:solidFill>
                <a:srgbClr val="000000"/>
              </a:solidFill>
              <a:latin typeface="Arial"/>
            </a:endParaRPr>
          </a:p>
        </p:txBody>
      </p:sp>
      <p:pic>
        <p:nvPicPr>
          <p:cNvPr id="42" name="" descr=""/>
          <p:cNvPicPr/>
          <p:nvPr/>
        </p:nvPicPr>
        <p:blipFill>
          <a:blip r:embed="rId1"/>
          <a:stretch/>
        </p:blipFill>
        <p:spPr>
          <a:xfrm>
            <a:off x="5435640" y="4584600"/>
            <a:ext cx="4481640" cy="3164040"/>
          </a:xfrm>
          <a:prstGeom prst="rect">
            <a:avLst/>
          </a:prstGeom>
          <a:ln w="0">
            <a:noFill/>
          </a:ln>
        </p:spPr>
      </p:pic>
      <p:pic>
        <p:nvPicPr>
          <p:cNvPr id="43" name="" descr=""/>
          <p:cNvPicPr/>
          <p:nvPr/>
        </p:nvPicPr>
        <p:blipFill>
          <a:blip r:embed="rId2"/>
          <a:stretch/>
        </p:blipFill>
        <p:spPr>
          <a:xfrm>
            <a:off x="190440" y="4584600"/>
            <a:ext cx="4800600" cy="3571920"/>
          </a:xfrm>
          <a:prstGeom prst="rect">
            <a:avLst/>
          </a:prstGeom>
          <a:ln w="0">
            <a:noFill/>
          </a:ln>
        </p:spPr>
      </p:pic>
      <p:pic>
        <p:nvPicPr>
          <p:cNvPr id="44" name="" descr=""/>
          <p:cNvPicPr/>
          <p:nvPr/>
        </p:nvPicPr>
        <p:blipFill>
          <a:blip r:embed="rId3"/>
          <a:stretch/>
        </p:blipFill>
        <p:spPr>
          <a:xfrm>
            <a:off x="6743880" y="482760"/>
            <a:ext cx="2788920" cy="35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270080" y="635040"/>
            <a:ext cx="888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hments</a:t>
            </a:r>
            <a:endParaRPr b="0" lang="en-US" sz="1800" spc="-1" strike="noStrike">
              <a:solidFill>
                <a:srgbClr val="000000"/>
              </a:solidFill>
              <a:latin typeface="Arial"/>
            </a:endParaRPr>
          </a:p>
        </p:txBody>
      </p:sp>
      <p:sp>
        <p:nvSpPr>
          <p:cNvPr id="60" name=""/>
          <p:cNvSpPr/>
          <p:nvPr/>
        </p:nvSpPr>
        <p:spPr>
          <a:xfrm>
            <a:off x="1270080" y="1270080"/>
            <a:ext cx="761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a52a00"/>
            </a:gs>
          </a:gsLst>
          <a:lin ang="10800000"/>
        </a:gradFill>
      </p:bgPr>
    </p:bg>
    <p:spTree>
      <p:nvGrpSpPr>
        <p:cNvPr id="1" name=""/>
        <p:cNvGrpSpPr/>
        <p:nvPr/>
      </p:nvGrpSpPr>
      <p:grpSpPr>
        <a:xfrm>
          <a:off x="0" y="0"/>
          <a:ext cx="0" cy="0"/>
          <a:chOff x="0" y="0"/>
          <a:chExt cx="0" cy="0"/>
        </a:xfrm>
      </p:grpSpPr>
      <p:sp>
        <p:nvSpPr>
          <p:cNvPr id="45" name=""/>
          <p:cNvSpPr/>
          <p:nvPr/>
        </p:nvSpPr>
        <p:spPr>
          <a:xfrm>
            <a:off x="584280" y="419040"/>
            <a:ext cx="5333760" cy="576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arlow Solid Italic - 48"/>
              </a:rPr>
              <a:t>The  Black Plague</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arlow Solid Italic - 48"/>
              </a:rPr>
              <a:t>	</a:t>
            </a:r>
            <a:r>
              <a:rPr b="0" lang="en-US" sz="3600" spc="-1" strike="noStrike">
                <a:solidFill>
                  <a:srgbClr val="000000"/>
                </a:solidFill>
                <a:latin typeface="Harlow Solid Italic - 36"/>
              </a:rPr>
              <a:t>A fatal disease spread by the Oriental Rat Flea that affected the young and the old during the mid-1300's in Eurasia.  </a:t>
            </a:r>
            <a:endParaRPr b="0" lang="en-US" sz="3600" spc="-1" strike="noStrike">
              <a:solidFill>
                <a:srgbClr val="000000"/>
              </a:solidFill>
              <a:latin typeface="Arial"/>
            </a:endParaRPr>
          </a:p>
        </p:txBody>
      </p:sp>
      <p:pic>
        <p:nvPicPr>
          <p:cNvPr id="46" name="" descr=""/>
          <p:cNvPicPr/>
          <p:nvPr/>
        </p:nvPicPr>
        <p:blipFill>
          <a:blip r:embed="rId1"/>
          <a:stretch/>
        </p:blipFill>
        <p:spPr>
          <a:xfrm>
            <a:off x="6197760" y="2013120"/>
            <a:ext cx="3822480" cy="2070000"/>
          </a:xfrm>
          <a:prstGeom prst="rect">
            <a:avLst/>
          </a:prstGeom>
          <a:ln w="0">
            <a:noFill/>
          </a:ln>
        </p:spPr>
      </p:pic>
      <p:pic>
        <p:nvPicPr>
          <p:cNvPr id="47" name="" descr=""/>
          <p:cNvPicPr/>
          <p:nvPr/>
        </p:nvPicPr>
        <p:blipFill>
          <a:blip r:embed="rId2"/>
          <a:stretch/>
        </p:blipFill>
        <p:spPr>
          <a:xfrm>
            <a:off x="914400" y="5346720"/>
            <a:ext cx="6981840" cy="502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c0c0c0"/>
            </a:gs>
          </a:gsLst>
          <a:lin ang="10800000"/>
        </a:gradFill>
      </p:bgPr>
    </p:bg>
    <p:spTree>
      <p:nvGrpSpPr>
        <p:cNvPr id="1" name=""/>
        <p:cNvGrpSpPr/>
        <p:nvPr/>
      </p:nvGrpSpPr>
      <p:grpSpPr>
        <a:xfrm>
          <a:off x="0" y="0"/>
          <a:ext cx="0" cy="0"/>
          <a:chOff x="0" y="0"/>
          <a:chExt cx="0" cy="0"/>
        </a:xfrm>
      </p:grpSpPr>
      <p:sp>
        <p:nvSpPr>
          <p:cNvPr id="48" name=""/>
          <p:cNvSpPr/>
          <p:nvPr/>
        </p:nvSpPr>
        <p:spPr>
          <a:xfrm>
            <a:off x="139680" y="266760"/>
            <a:ext cx="9956880" cy="675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Harlow Solid Italic - 36"/>
              </a:rPr>
              <a:t>Variations</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Harlow Solid Italic - 36"/>
              </a:rPr>
              <a:t>·</a:t>
            </a:r>
            <a:r>
              <a:rPr b="0" lang="en-US" sz="2700" spc="-1" strike="noStrike">
                <a:solidFill>
                  <a:srgbClr val="000000"/>
                </a:solidFill>
                <a:latin typeface="Harlow Solid Italic - 28"/>
              </a:rPr>
              <a:t>Pneumonic Plague- affects the respiratory system and is spread by breathing the air that an  infected person has breathed.Life expectancy: one-two days </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Harlow Solid Italic - 28"/>
              </a:rPr>
              <a:t>·Bubonic Plague- Large swellings appeared near the armpit neck and groin areas.The most common version of the plague. Life expectancy: one week from the lesions occurrence</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Harlow Solid Italic - 28"/>
              </a:rPr>
              <a:t>·Septicemic Plague- attacked the blood stream. High fever and skin turned dark shades of purple or blue. Life expectancy: two- three day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07960" y="901800"/>
            <a:ext cx="9398160" cy="653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0000"/>
                </a:solidFill>
                <a:latin typeface="Harlow Solid Italic - 48"/>
              </a:rPr>
              <a:t>Infection</a:t>
            </a:r>
            <a:endParaRPr b="0" lang="en-US" sz="5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0000"/>
                </a:solidFill>
                <a:latin typeface="Harlow Solid Italic - 48"/>
              </a:rPr>
              <a:t>Th</a:t>
            </a:r>
            <a:r>
              <a:rPr b="0" lang="en-US" sz="2800" spc="-1" strike="noStrike">
                <a:solidFill>
                  <a:srgbClr val="ff0000"/>
                </a:solidFill>
                <a:latin typeface="Harlow Solid Italic - 24"/>
              </a:rPr>
              <a:t>e flea passed the bacteria, called Yersina Pestis, from Black Rats bodies' to humans. In the 1300's sanitation was not understood and having fleas was very common. Everyone was affected by this awful disease from royalty to the common pauper. The bacteria multiplied inside the fleas body, blocking its stomach and causing it to be very hungry. As a result, it continued on  a feeding frenzy. The infected blood, flowed into the victim, once bitten. The flea eventually died, but the cycle carried on</a:t>
            </a:r>
            <a:r>
              <a:rPr b="0" lang="en-US" sz="2800" spc="-1" strike="noStrike">
                <a:solidFill>
                  <a:srgbClr val="ff0000"/>
                </a:solidFill>
                <a:latin typeface="Arial - 24"/>
              </a:rPr>
              <a:t>.    </a:t>
            </a:r>
            <a:endParaRPr b="0" lang="en-US" sz="2800" spc="-1" strike="noStrike">
              <a:solidFill>
                <a:srgbClr val="000000"/>
              </a:solidFill>
              <a:latin typeface="Arial"/>
            </a:endParaRPr>
          </a:p>
        </p:txBody>
      </p:sp>
      <p:pic>
        <p:nvPicPr>
          <p:cNvPr id="50" name="" descr=""/>
          <p:cNvPicPr/>
          <p:nvPr/>
        </p:nvPicPr>
        <p:blipFill>
          <a:blip r:embed="rId1"/>
          <a:stretch/>
        </p:blipFill>
        <p:spPr>
          <a:xfrm>
            <a:off x="533520" y="495360"/>
            <a:ext cx="2509560" cy="16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0c0c0"/>
            </a:gs>
          </a:gsLst>
          <a:lin ang="10800000"/>
        </a:gradFill>
      </p:bgPr>
    </p:bg>
    <p:spTree>
      <p:nvGrpSpPr>
        <p:cNvPr id="1" name=""/>
        <p:cNvGrpSpPr/>
        <p:nvPr/>
      </p:nvGrpSpPr>
      <p:grpSpPr>
        <a:xfrm>
          <a:off x="0" y="0"/>
          <a:ext cx="0" cy="0"/>
          <a:chOff x="0" y="0"/>
          <a:chExt cx="0" cy="0"/>
        </a:xfrm>
      </p:grpSpPr>
      <p:sp>
        <p:nvSpPr>
          <p:cNvPr id="51" name=""/>
          <p:cNvSpPr/>
          <p:nvPr/>
        </p:nvSpPr>
        <p:spPr>
          <a:xfrm>
            <a:off x="1295280" y="1511280"/>
            <a:ext cx="8483760" cy="59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100" spc="-1" strike="noStrike">
                <a:solidFill>
                  <a:srgbClr val="000000"/>
                </a:solidFill>
                <a:latin typeface="Harlow Solid Italic - 72"/>
              </a:rPr>
              <a:t>Symptoms</a:t>
            </a:r>
            <a:endParaRPr b="0" lang="en-US" sz="7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100" spc="-1" strike="noStrike">
                <a:solidFill>
                  <a:srgbClr val="000000"/>
                </a:solidFill>
                <a:latin typeface="Harlow Solid Italic - 72"/>
              </a:rPr>
              <a:t>·</a:t>
            </a:r>
            <a:r>
              <a:rPr b="0" lang="en-US" sz="3500" spc="-1" strike="noStrike">
                <a:solidFill>
                  <a:srgbClr val="000000"/>
                </a:solidFill>
                <a:latin typeface="Harlow Solid Italic - 36"/>
              </a:rPr>
              <a:t>head aches</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arlow Solid Italic - 36"/>
              </a:rPr>
              <a:t>·nausea</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arlow Solid Italic - 36"/>
              </a:rPr>
              <a:t>·aching limbs</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arlow Solid Italic - 36"/>
              </a:rPr>
              <a:t>·high fever (101-105)</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arlow Solid Italic - 36"/>
              </a:rPr>
              <a:t>·vomiting</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arlow Solid Italic - 36"/>
              </a:rPr>
              <a:t>·change in skin color to dark purple or blue</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arlow Solid Italic - 36"/>
              </a:rPr>
              <a:t>symptoms took 7 days to appear</a:t>
            </a:r>
            <a:endParaRPr b="0" lang="en-US" sz="3500" spc="-1" strike="noStrike">
              <a:solidFill>
                <a:srgbClr val="000000"/>
              </a:solidFill>
              <a:latin typeface="Arial"/>
            </a:endParaRPr>
          </a:p>
        </p:txBody>
      </p:sp>
      <p:pic>
        <p:nvPicPr>
          <p:cNvPr id="52" name="" descr=""/>
          <p:cNvPicPr/>
          <p:nvPr/>
        </p:nvPicPr>
        <p:blipFill>
          <a:blip r:embed="rId1"/>
          <a:stretch/>
        </p:blipFill>
        <p:spPr>
          <a:xfrm>
            <a:off x="6692760" y="552600"/>
            <a:ext cx="2921040" cy="201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a52a00"/>
            </a:gs>
          </a:gsLst>
          <a:lin ang="10800000"/>
        </a:gradFill>
      </p:bgPr>
    </p:bg>
    <p:spTree>
      <p:nvGrpSpPr>
        <p:cNvPr id="1" name=""/>
        <p:cNvGrpSpPr/>
        <p:nvPr/>
      </p:nvGrpSpPr>
      <p:grpSpPr>
        <a:xfrm>
          <a:off x="0" y="0"/>
          <a:ext cx="0" cy="0"/>
          <a:chOff x="0" y="0"/>
          <a:chExt cx="0" cy="0"/>
        </a:xfrm>
      </p:grpSpPr>
      <p:sp>
        <p:nvSpPr>
          <p:cNvPr id="53" name=""/>
          <p:cNvSpPr/>
          <p:nvPr/>
        </p:nvSpPr>
        <p:spPr>
          <a:xfrm>
            <a:off x="177840" y="419040"/>
            <a:ext cx="75945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Bright - 28"/>
              </a:rPr>
              <a:t>The Plague in Society</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Bright - 28"/>
              </a:rPr>
              <a:t>·The Plague killed 30-60% of Europe's population (about 1/3) during the mid-1300's.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Bright - 28"/>
              </a:rPr>
              <a:t>·The first attacks were near the Black Sea, hence the name.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Bright - 28"/>
              </a:rPr>
              <a:t>·It was considered one of the worst natural disasters known in world history.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Bright - 28"/>
              </a:rPr>
              <a:t>·People also died of starvation, because all public affairs stopped. There was no one to work the farms and factories.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Bright - 28"/>
              </a:rPr>
              <a:t>·Some people escaped the worst of the plague by traveling to the country, the disease ravaged mostly in the cities.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Bright - 28"/>
              </a:rPr>
              <a:t>·Dead were piled in the streets and the stench was overwhelming; there was no one to bury the bodies.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Bright - 28"/>
              </a:rPr>
              <a:t>·Most of society was hysterical and thought it was the end of the world. </a:t>
            </a:r>
            <a:endParaRPr b="0" lang="en-US" sz="2100" spc="-1" strike="noStrike">
              <a:solidFill>
                <a:srgbClr val="000000"/>
              </a:solidFill>
              <a:latin typeface="Arial"/>
            </a:endParaRPr>
          </a:p>
        </p:txBody>
      </p:sp>
      <p:pic>
        <p:nvPicPr>
          <p:cNvPr id="54" name="" descr=""/>
          <p:cNvPicPr/>
          <p:nvPr/>
        </p:nvPicPr>
        <p:blipFill>
          <a:blip r:embed="rId1"/>
          <a:stretch/>
        </p:blipFill>
        <p:spPr>
          <a:xfrm>
            <a:off x="7188120" y="3517920"/>
            <a:ext cx="3092400" cy="349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808080"/>
            </a:gs>
          </a:gsLst>
          <a:lin ang="10800000"/>
        </a:gradFill>
      </p:bgPr>
    </p:bg>
    <p:spTree>
      <p:nvGrpSpPr>
        <p:cNvPr id="1" name=""/>
        <p:cNvGrpSpPr/>
        <p:nvPr/>
      </p:nvGrpSpPr>
      <p:grpSpPr>
        <a:xfrm>
          <a:off x="0" y="0"/>
          <a:ext cx="0" cy="0"/>
          <a:chOff x="0" y="0"/>
          <a:chExt cx="0" cy="0"/>
        </a:xfrm>
      </p:grpSpPr>
      <p:sp>
        <p:nvSpPr>
          <p:cNvPr id="55" name=""/>
          <p:cNvSpPr/>
          <p:nvPr/>
        </p:nvSpPr>
        <p:spPr>
          <a:xfrm>
            <a:off x="127080" y="330120"/>
            <a:ext cx="9702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arlow Solid Italic - 36"/>
              </a:rPr>
              <a:t>Treatmen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arlow Solid Italic - 36"/>
              </a:rPr>
              <a:t>There was no known treatment, even today. Doctors could do nothing for the victims, except wait until they die. it took the world many years to recover after the disease finished rampaging. it was stopped, mainly, by better sanitation and better public health and building immunities to the disease. it does not affect the population toda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8b0000"/>
            </a:gs>
          </a:gsLst>
          <a:lin ang="10800000"/>
        </a:gradFill>
      </p:bgPr>
    </p:bg>
    <p:spTree>
      <p:nvGrpSpPr>
        <p:cNvPr id="1" name=""/>
        <p:cNvGrpSpPr/>
        <p:nvPr/>
      </p:nvGrpSpPr>
      <p:grpSpPr>
        <a:xfrm>
          <a:off x="0" y="0"/>
          <a:ext cx="0" cy="0"/>
          <a:chOff x="0" y="0"/>
          <a:chExt cx="0" cy="0"/>
        </a:xfrm>
      </p:grpSpPr>
      <p:graphicFrame>
        <p:nvGraphicFramePr>
          <p:cNvPr id="56" name="ShockwaveFlash1"/>
          <p:cNvGraphicFramePr/>
          <p:nvPr/>
        </p:nvGraphicFramePr>
        <p:xfrm>
          <a:off x="266760" y="927000"/>
          <a:ext cx="9850320" cy="7013520"/>
        </p:xfrm>
        <a:graphic>
          <a:graphicData uri="http://schemas.openxmlformats.org/presentationml/2006/ole">
            <p:oleObj r:id="rId1" spid="">
              <p:embed/>
              <p:pic>
                <p:nvPicPr>
                  <p:cNvPr id="57" name="ShockwaveFlash1" descr=""/>
                  <p:cNvPicPr/>
                  <p:nvPr/>
                </p:nvPicPr>
                <p:blipFill>
                  <a:blip r:embed="rId2"/>
                  <a:stretch/>
                </p:blipFill>
                <p:spPr>
                  <a:xfrm>
                    <a:off x="266760" y="927000"/>
                    <a:ext cx="9850320" cy="701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c0c0c0"/>
            </a:gs>
          </a:gsLst>
          <a:lin ang="10800000"/>
        </a:gradFill>
      </p:bgPr>
    </p:bg>
    <p:spTree>
      <p:nvGrpSpPr>
        <p:cNvPr id="1" name=""/>
        <p:cNvGrpSpPr/>
        <p:nvPr/>
      </p:nvGrpSpPr>
      <p:grpSpPr>
        <a:xfrm>
          <a:off x="0" y="0"/>
          <a:ext cx="0" cy="0"/>
          <a:chOff x="0" y="0"/>
          <a:chExt cx="0" cy="0"/>
        </a:xfrm>
      </p:grpSpPr>
      <p:sp>
        <p:nvSpPr>
          <p:cNvPr id="58" name=""/>
          <p:cNvSpPr/>
          <p:nvPr/>
        </p:nvSpPr>
        <p:spPr>
          <a:xfrm>
            <a:off x="1549440" y="1359000"/>
            <a:ext cx="769608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arlow Solid Italic - 36"/>
              </a:rPr>
              <a:t>Bibliography</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arlow Solid Italic - 36"/>
              </a:rPr>
              <a:t>htt</a:t>
            </a:r>
            <a:r>
              <a:rPr b="0" lang="en-US" sz="2500" spc="-1" strike="noStrike">
                <a:solidFill>
                  <a:srgbClr val="000000"/>
                </a:solidFill>
                <a:latin typeface="Harlow Solid Italic - 26"/>
              </a:rPr>
              <a:t>p://urbanrim.org.uk/diseases.htm#Scarlet%20Fever</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Harlow Solid Italic - 26"/>
              </a:rPr>
              <a:t>http://urbanrim.org.uk/diseases.htm#Plague</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Harlow Solid Italic - 26"/>
              </a:rPr>
              <a:t>http://www.insecta-inspecta.com/fleas/bdeath/</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16:55:54Z</dcterms:created>
  <dc:creator>FCPS</dc:creator>
  <dc:description/>
  <dc:language>en-US</dc:language>
  <cp:lastModifiedBy>FCPS</cp:lastModifiedBy>
  <dcterms:modified xsi:type="dcterms:W3CDTF">2010-03-24T16:55:55Z</dcterms:modified>
  <cp:revision>1</cp:revision>
  <dc:subject/>
  <dc:title>Slide 1</dc:title>
</cp:coreProperties>
</file>